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117-1D58-4016-8CA7-EF1B8265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734-2F56-4DC4-AB6B-41C3CA2B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DA8-6E65-4058-94C5-BCB21CF0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CCC-13AF-43A7-A166-7588F2D0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5050-C4DE-4D67-87D0-B8CA6F0F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D117-6C1C-4975-A853-F4B42DAD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C90C-9E1E-4CAD-AB03-BB1ADA9D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6141-225C-4C0A-BCB2-384E1960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4644-3463-4FBE-B08D-28FEE204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9435-27C1-4BD8-B188-76C0F4F0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1EF9-76D2-4469-B093-7839BA85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E1F-CD33-447B-8D27-3A35E9BF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5C2B-628F-4D53-A333-BF7BDD29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7C37-59D5-47F1-8E37-6244D8B1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29BB-95BB-4C89-9C01-78F51566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9E50-31D2-4E50-AC19-AA3F9341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D502-2E01-4ADD-AF1B-74440A54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64D-F4AF-4110-8985-743E4141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236-8145-4A6A-801C-C3B15A4E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DF6-2CC0-4C29-95FD-04A5875D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CBB-F1F5-4BC8-B254-6632A357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067-6008-4F09-B295-4E7D641D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75B-834E-4279-AC15-CBB2EBB2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DC2-F7F6-419D-B595-52D14E66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BFD7-AA98-4E4C-A0BB-78FF1A482C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91D1-F25A-4204-95CA-30B96BF11A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OL in U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ug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ylum see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ently arrived immigr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uropean Union (work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term UK resi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1055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Huge range in ESOL classes in terms of educational background, life experience and motivations for learning.  In one class you might find a doctor, a factory worker and a stay-at-home Mu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are they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 Education colleges (also ‘outreach centres’ – ‘in the community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ult Education cent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s (Family Learn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vate institu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they learn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curriculum in dedicated ESOL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levels:  Entry 1,2 and 3.  Level 1 and 2 (level 2 is GCSE equivalen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embedded in content curriculum (e.g. engineering, childcare, beauty therap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ttp://www.youtube.com/watch?v=KB950QpD7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fund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7280" y="2438280"/>
            <a:ext cx="822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K government through ‘Skills for Life’ (Df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73392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99"/>
                </a:solidFill>
                <a:latin typeface="Arial"/>
              </a:rPr>
              <a:t>Who is teaching the studen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 generic PGCE/Cert Ed. in PCET (Post-compulsory education and training) and an ESOL Certificate at Level 4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n integrated PGCE in PCET/ESO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 the table that shows what students need to know/be able to do at different levels in listening.  Some sections have been removed.  Replace the sec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962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2.      Look at the texts used with students of ESOL.  What                                   level do you think this work is set a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9528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  Imagine you are a teacher working with these texts.  Choose one and design two activities that you feel would be suitable to help students either to understand these texts or to produce similar tex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 of an Embedded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the text and answer the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2-01T10:15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